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111F-88F9-4BDA-8039-611531EE7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3A05-F4C2-4CC5-AD96-E6475C7A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9F50-BF8C-4855-88A3-D77EBCAF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FB5C-BB1B-4715-B65E-48084E09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F082-D949-4D44-8CB8-C6E92952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7CEC-C218-4EF8-BA47-1066A053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13CC-5EDC-45F3-ADDA-C2186439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91DD-5360-4E05-B67A-D3267FED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B464-0071-40C1-8CE1-44542E7A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E869-4E16-45A0-88C3-65171825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A9A3-A155-4223-A7FA-31A214D6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6872-00A5-4813-B97E-7310050A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7373-2525-4A35-B1E1-F529A409D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doni MT Black"/>
              </a:rPr>
              <a:t>La c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Bodoni MT Black"/>
              </a:rPr>
              <a:t>By Erica Grasberger and Ben Sturg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La casa esta localizada en Dover Sherborn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Massachuset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sta en la calle Bosque de la ca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uesta 800,000,000,000,000,000,0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uy muy muy muy gra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Curlz MT"/>
              </a:rPr>
              <a:t>El Cuar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67080" y="4294080"/>
            <a:ext cx="42674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Curlz MT"/>
              </a:rPr>
              <a:t>hay 21 cuar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Curlz MT"/>
              </a:rPr>
              <a:t>El cuartos es incredible, y impresion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La s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En la sala </a:t>
            </a: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hay un sofá de piel Leap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una televisión de pantalla pl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una chimen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la alfombra está hecha de terciopelo muy ca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el techo está hecho de madera de roble de Califo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El </a:t>
            </a:r>
            <a:r>
              <a:rPr b="0" lang="es-ES" sz="4400" spc="-1" strike="noStrike">
                <a:solidFill>
                  <a:srgbClr val="9900cc"/>
                </a:solidFill>
                <a:latin typeface="Arial"/>
              </a:rPr>
              <a:t>Come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Doce me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El comedor es grande, moderno, y luj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El ba</a:t>
            </a:r>
            <a:r>
              <a:rPr b="0" lang="es-ES" sz="4400" spc="-1" strike="noStrike">
                <a:solidFill>
                  <a:srgbClr val="ff3300"/>
                </a:solidFill>
                <a:latin typeface="Comic Sans MS"/>
              </a:rPr>
              <a:t>ñ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Comic Sans MS"/>
              </a:rPr>
              <a:t>hay ocho cuartos de ba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3300"/>
                </a:solidFill>
                <a:latin typeface="Comic Sans MS"/>
              </a:rPr>
              <a:t>El ba</a:t>
            </a:r>
            <a:r>
              <a:rPr b="0" lang="es-ES" sz="3200" spc="-1" strike="noStrike">
                <a:solidFill>
                  <a:srgbClr val="ff3300"/>
                </a:solidFill>
                <a:latin typeface="Comic Sans MS"/>
              </a:rPr>
              <a:t>ño en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primer piso, </a:t>
            </a:r>
            <a:r>
              <a:rPr b="0" lang="es-ES" sz="3200" spc="-1" strike="noStrike">
                <a:solidFill>
                  <a:srgbClr val="ff3300"/>
                </a:solidFill>
                <a:latin typeface="Comic Sans MS"/>
              </a:rPr>
              <a:t>segundo piso, tercer pi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Comic Sans MS"/>
              </a:rPr>
              <a:t>El inodoro es en el ba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Comic Sans MS"/>
              </a:rPr>
              <a:t>El baño es bonito, bello, y estup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La cocin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ay tres cocin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viene con: una nevera con un televisor en la que, una estufa de oro y microondas plantn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La cocina incred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Dormitorios bajo el agu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Hay nueve dormitor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El dormitorios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se encuentran bajo el ag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El dormitorios es luj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45720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438280" y="15228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El gar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16765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El garaje es lujoso y magnif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396252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Arial"/>
              </a:rPr>
              <a:t>el garaje se Undergr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15:39:08Z</dcterms:created>
  <dc:creator>sturgisben</dc:creator>
  <dc:description/>
  <dc:language>en-US</dc:language>
  <cp:lastModifiedBy>sturgisben</cp:lastModifiedBy>
  <dcterms:modified xsi:type="dcterms:W3CDTF">2012-05-23T18:45:06Z</dcterms:modified>
  <cp:revision>5</cp:revision>
  <dc:subject/>
  <dc:title>La casa</dc:title>
</cp:coreProperties>
</file>